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E73-632E-4606-A5DF-C0808708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011-93D2-4B40-A8CD-8902F2E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891-D299-47F0-9242-07E571D4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804-9905-47AB-A826-C4DC2F84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39B-1345-40B8-BBED-DE39A58A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DBB-EFAF-44CB-8C66-74A820E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C85-EA47-47B8-9DAA-0EA84E4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9B5-C77A-47CC-A5CF-F70F76D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49C-6C11-4E2F-90E2-E4C59D5C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8F5-EE29-485B-9BA9-1DBB65A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FD4-9C5F-4035-88D7-E958CC5E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031-C0B2-48DF-9C20-F59D6FE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249-21D6-4F76-98A6-17F391C5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54160"/>
            <a:ext cx="126216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Plans towards the final power supply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8840" y="50288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. Omeich SE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34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mid-June 0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« cahier des clauses techniques particulières de l’alimentation pulsée de la corne de Neutrino » official document written by M. Omeich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3pages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is describes the different technical characteristics required at that time both for the power supply and the switches,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e contract between the factory(ies) and LAL and CERN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1</a:t>
            </a:r>
            <a:r>
              <a:rPr b="0" lang="en-GB" sz="2400" spc="-1" strike="noStrike" baseline="30000">
                <a:solidFill>
                  <a:srgbClr val="fc0128"/>
                </a:solidFill>
                <a:latin typeface="Comic Sans MS"/>
              </a:rPr>
              <a:t>st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industrial price feed bac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Main power supply (7kV/130A): HAZEMEYER co.: ~ 16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withes (300kA/100</a:t>
            </a:r>
            <a:r>
              <a:rPr b="0" lang="en-GB" sz="2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/50Hz): ABB co: ~ 3x2x50k€</a:t>
            </a:r>
            <a:r>
              <a:rPr b="0" lang="en-GB" sz="2000" spc="-1" strike="noStrike">
                <a:solidFill>
                  <a:srgbClr val="33cc33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= 30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715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063de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8320" y="5684760"/>
            <a:ext cx="5564880" cy="458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lution exists for ~ 460k€ (700k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29440" y="272880"/>
            <a:ext cx="4467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Industrial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6389640"/>
            <a:ext cx="539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*: factor 2 for # of swit</a:t>
            </a:r>
            <a:r>
              <a:rPr b="1" lang="fr-FR" sz="1600" spc="-1" strike="noStrike">
                <a:solidFill>
                  <a:srgbClr val="33cc33"/>
                </a:solidFill>
                <a:latin typeface="Comic Sans MS"/>
              </a:rPr>
              <a:t>c</a:t>
            </a: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hes, factor 3 for 1Hz -&gt; 50H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1920" y="1371600"/>
            <a:ext cx="827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think that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e have time to do some R&amp;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decrease the price (certainly the study is included the price…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. Völker has a nice setup at CERN that he has pushed to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100kA/1Hz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6640" y="3475080"/>
            <a:ext cx="3962880" cy="2685600"/>
            <a:chOff x="386640" y="3475080"/>
            <a:chExt cx="3962880" cy="2685600"/>
          </a:xfrm>
        </p:grpSpPr>
        <p:sp>
          <p:nvSpPr>
            <p:cNvPr id="51" name=""/>
            <p:cNvSpPr/>
            <p:nvPr/>
          </p:nvSpPr>
          <p:spPr>
            <a:xfrm>
              <a:off x="1785240" y="3475080"/>
              <a:ext cx="109188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6640" y="431316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1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16120" y="434340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2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1"/>
              <a:endCxn id="52" idx="0"/>
            </p:cNvCxnSpPr>
            <p:nvPr/>
          </p:nvCxnSpPr>
          <p:spPr>
            <a:xfrm flipV="1" rot="10800000">
              <a:off x="1253160" y="3709080"/>
              <a:ext cx="559800" cy="603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" name=""/>
            <p:cNvCxnSpPr>
              <a:stCxn id="51" idx="3"/>
              <a:endCxn id="53" idx="0"/>
            </p:cNvCxnSpPr>
            <p:nvPr/>
          </p:nvCxnSpPr>
          <p:spPr>
            <a:xfrm>
              <a:off x="2853720" y="3709800"/>
              <a:ext cx="629640" cy="633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" name=""/>
            <p:cNvSpPr/>
            <p:nvPr/>
          </p:nvSpPr>
          <p:spPr>
            <a:xfrm>
              <a:off x="2257200" y="5181480"/>
              <a:ext cx="15264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2" idx="2"/>
              <a:endCxn id="56" idx="2"/>
            </p:cNvCxnSpPr>
            <p:nvPr/>
          </p:nvCxnSpPr>
          <p:spPr>
            <a:xfrm flipH="1" rot="16200000">
              <a:off x="1516680" y="4518360"/>
              <a:ext cx="475560" cy="1003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" name=""/>
            <p:cNvCxnSpPr>
              <a:stCxn id="53" idx="2"/>
              <a:endCxn id="56" idx="6"/>
            </p:cNvCxnSpPr>
            <p:nvPr/>
          </p:nvCxnSpPr>
          <p:spPr>
            <a:xfrm rot="5400000">
              <a:off x="2723400" y="4498920"/>
              <a:ext cx="445320" cy="1073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9" name=""/>
            <p:cNvSpPr/>
            <p:nvPr/>
          </p:nvSpPr>
          <p:spPr>
            <a:xfrm>
              <a:off x="1879200" y="5702400"/>
              <a:ext cx="91044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2333520" y="5333760"/>
              <a:ext cx="2160" cy="36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61" name=""/>
          <p:cNvSpPr/>
          <p:nvPr/>
        </p:nvSpPr>
        <p:spPr>
          <a:xfrm>
            <a:off x="4800600" y="3500280"/>
            <a:ext cx="3809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1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Energy recovery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2480" y="4987800"/>
            <a:ext cx="5258520" cy="1555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propose to continue t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x3 on each branch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elements and change th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eded to reach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300kA/1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5800" y="304920"/>
            <a:ext cx="213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&amp;D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CERN electrical circui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14768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In a dream world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We wish to transfert at LAL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F. Völker’s present setup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(power supply?, switches, load, energy recovery circuit, cables…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and the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prototyp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63de8"/>
                </a:solidFill>
                <a:latin typeface="Comic Sans MS"/>
              </a:rPr>
              <a:t>as soon as CERN group agrees that we can do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If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we will buy the same « semi-conductor » elements used presently to increase step by step from 100kA to 300kA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(cost? cf. F. Völker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If needed we will increase the main power supply (present 3kV/10A ?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, we can experience what happens during this current increase on both si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Power supply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qualify the switches and the schema in the perspective either to do the assembly at home either to negotiate the price with company…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perform some strain measurements at higher current even if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ay be already experienced with CNGS + F. Völker power supp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Horn prototype design is not the final one (see. S. Wallon/A. Caz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Prepare ourselves </a:t>
            </a:r>
            <a:r>
              <a:rPr b="0" lang="fr-FR" sz="2400" spc="-1" strike="noStrike">
                <a:solidFill>
                  <a:srgbClr val="fc0128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the next Horn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8:37:42Z</dcterms:created>
  <dc:creator>J.E Campagne</dc:creator>
  <dc:description/>
  <dc:language>en-US</dc:language>
  <cp:lastModifiedBy>J.E Campagne</cp:lastModifiedBy>
  <dcterms:modified xsi:type="dcterms:W3CDTF">2003-07-04T14:46:52Z</dcterms:modified>
  <cp:revision>8</cp:revision>
  <dc:subject/>
  <dc:title>Plan for power supply</dc:title>
</cp:coreProperties>
</file>